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A457-128C-467D-BA0A-716FB7CF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26F-D96B-40EB-8D89-6FA3207A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DC602-9236-4045-9786-3844BD3C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171E1-0B59-4F9E-85A8-5F8FCE56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BA27B-9718-4EA7-B7AC-5B7DBFDB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5123A-0D65-424D-8651-D8172EF2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5A3CE-41BB-41CE-8975-B5801425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A0197-9BDA-4E5F-BBEA-91C66AA9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8E9D5-01E4-411A-A328-F3CFAF1D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26B66-A312-4E77-9E79-3C3C1A58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8763C-9F0D-40F5-B322-5E60A552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506E4-E5E4-43B7-ABE6-507BCE4A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1D12-886C-42D8-9A4D-BA3602E5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16A2D-6CCE-4249-A86B-5F6F7D4C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94EE0-7E90-4399-A8A5-44D45229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4B05C-F499-45B9-A6BF-A7E48DE0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756F5-C70A-421D-B4C5-569F6587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D8FE6-7495-4C46-A8EE-D5A74B68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2FD96-C43B-4ADF-B0BE-CFFBB95B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1DFE6-BA31-4446-8825-80309621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4914A-C2F6-4BDF-91F4-EBF8A210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991BA-A228-4BF3-B02C-FBB65177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A7474-7BD0-4801-BBC7-1194483D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CDDC-CECD-440D-9E85-1BE903C4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F3971-9B65-4F6E-937B-DC0D4E32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479EC-A850-4117-8BD6-C6EBB128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34058-8E53-4774-AF7F-88E3EEA1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D8631-FC10-41B4-8716-0032120E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52E5A-03A5-4ABA-9369-8AE000FB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1EDB9-BFCA-4929-B16C-BD0D55F8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A8E94-6FC6-4E2D-9F6A-BB6EFEB2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DA103-6FDE-42D1-A882-F157D152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E2827-97AB-482C-8861-8055FC7C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526DF-BFC8-46CB-B80D-B1E95541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4138-489E-4FA3-AC76-DB0E6CB5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45013-B028-4E11-916E-E9D7CEED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6D191-D02E-488B-848D-4C68EDAF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1423C-6848-42E5-8DED-B4A4ADCB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17734-142C-483F-8518-3B34B88E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18201-A9CB-4CBA-AE42-2829B11A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D4B66-E130-44EA-B8E9-1DCA2ACB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73FCF-3D3D-429C-B585-9260F4C4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2156A-CF47-4F2E-8280-ADBB1455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F2448-F2E1-4F9D-9E18-CF84C8F3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C5DA0-C2D6-4DA3-92D2-50CEA9EC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89B1-724C-4775-B26B-563FD28B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7790E-40AE-4074-90E9-B0C6FE9D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80079-B7C5-4838-A295-2EDB66DB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49C2D-F7EA-47B3-A29D-F73F1239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CD591-F581-4E17-86C2-B52DFBAA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0AE78-2350-43C0-A8DB-00CF8439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8876A-58BE-4B08-BD87-4FEE9238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4F12B6-EC30-4B5B-8E4B-19A4BDDC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3E301-D157-4492-B604-B7A699A0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1227EE-87E4-4B28-9D70-662527C6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AF8BA-E4B7-42AE-B4D2-6892FE9A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38A8-11D6-48EE-AE06-20367C65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011ED-AB37-4280-9E93-85AC85BB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2B9834-220A-435B-9D79-8673DECC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F16284-B06A-4A55-BFC1-88694E56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158475-2799-4002-B3A1-00FC96BB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A19CB0-E2E2-417A-9A8A-3D848301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BF2906-6F4B-49CB-96FC-02371F65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30B52-B37D-4C53-B4E2-EDB112F4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C2368A-66A7-422F-BB07-A81DE850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E1FCF0-4F3A-4E17-9933-CC47542A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094B6A-86D1-4AE5-88A9-3077C0A9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BACA-0487-4649-BB73-FD54A3EF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85B348-DCD2-4CC7-8287-5B1EF484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1DA851-A934-4730-BA06-4376899C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F7F016-0842-469E-BB90-4493DE70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AB4F21-6889-4BBF-9629-0978F8F6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649A68-4A09-48DB-B881-4B38AEA6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9E944-DA94-4A7E-AA38-5814F397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BC8375-9975-48B4-813B-FB852DC5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C87B47-DEE8-45B5-BBBC-42F13CE2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3BB13B-6435-42B5-A891-522850F1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EDAFDE-E522-4731-95BA-DF64E1B9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33BC-E6E9-48EC-AFBF-CDE5C893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9FEA26-9EA4-4504-8E4D-FEAC9390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2E6314-7C61-4651-8EA5-B73B4E59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75F969-80C0-449E-A1B2-E9064ECE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33AD0B-203F-4F84-8E30-7F4BAE13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555B03-304A-46C5-9BC6-EB5FA51F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E2F16C-DAA9-4638-8933-C3D7473C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5664FC-C092-4D2A-959A-8B66068D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A879D8-D5BF-432C-81C2-6BCF05EC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319B45-3722-4188-82B1-E8AECEF1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2B05EA-4F13-4418-8B9A-D18610FC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4B79-B579-4997-83AC-4F2CE581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0A73BA-10E3-418E-96BD-E3E36CF7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5FF5AD-D60F-4AF7-9821-059E62B3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8DD2D4-0D9C-412A-8DF6-FA0A8839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F64DA2-4952-4959-A648-7B5160A7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13E98E-6DF8-430E-B05A-37C85046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05E605-78C0-42B2-98EF-2F8A6F11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0C6170-1389-4411-A1BF-D8F52AEA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3FE9B8-8A85-409E-8C05-6D7D79E0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3FFF24-6B2A-4820-9A84-13A46467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3A72C1-8955-4696-9D79-E087161A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10B4-CD64-42A7-806B-381A8EBB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5B07EC-BB4F-42B2-98E6-DD26E14B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F162C4-86D1-4D2A-A5C6-29DF1B89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CEBEE1-3016-46B9-B49A-03F1D69C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46CDEC-52CD-43B4-A472-43CB4322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A643F7-B604-46D2-9EBC-4B2382EC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3858A9-933D-4BFB-B7F5-8852863F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E0CDC0-237E-4A9B-8436-F2C7EDDF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B8D52E-3B57-48CE-BBAA-E6C8D75A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E3B42C-C48C-4A6A-B028-EFBCDD22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5CE0B5-612D-478C-9B52-70E2186D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8D01-E4CD-43D7-BBD7-9FBFC082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6DB3-C1D6-4FD9-B672-D14BC3F1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C682CC-2B1F-4BC0-9C09-467DB69F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69D254-B872-4160-9E96-02DF0BC4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92CD27-7E9E-4F59-BDA9-0DF3D3E3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CCB635-EFCA-4E00-A8AB-A098B586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879605-E9C6-444F-BF59-49FC70FF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82E266-B28A-4AF6-ADF7-717E75BF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649C72-53BD-42C2-80FA-18883E86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58D8D1-DD7B-4555-AFDB-6AF68CA8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AF1123-5002-447E-8513-F8800BD0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A903EC-C271-4872-9937-4BA7C376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7C5F-94A8-4246-BFFB-3A73A3A7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6B9F97-264A-4A9E-9735-801C5553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7C74E2-B50D-44E3-B487-A7A4B105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2C9E12-5455-4758-8E82-585F2A13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2C3369-9D6D-4457-A3CE-808B3243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9EAEEE-424F-4328-9B68-FFBDAA33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574CA3-1647-4502-82A8-40F4C8ED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ECBC87-E96F-47A7-85D2-C2859B46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CF5017-700A-4997-A0D1-6E89BA94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649362-9DDF-4F56-99E7-12DA73BC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671118-8679-4ACD-B581-D14E98F8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5872-58F7-45D9-862F-E1749761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928213-C193-4301-8370-94200BC5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838241-1649-4E7A-9294-8524291F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03C8BB-2A3C-42C8-8053-C20E869D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767AAB-3BE3-4E9F-8B25-87A8859A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5F5AD4-8B22-4B22-B395-D051C491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6E5AC0-A711-44EB-B8B0-7EB71C49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689A00-FD05-4FBA-9970-7C61C247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D94A91-880B-4331-8E63-482F1D3D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AEF1E5-D8F4-4268-91D2-A077E391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EBE70E-620B-4155-A6EA-99A522A5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B9CB-DC4E-4B31-94F7-6C700569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C39035-465A-4484-BEC9-C1DD6419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99E8A8-3403-4958-AC8A-BE3E57B9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01916F-CEBE-49C0-840B-219F6DA1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2DA89D-F044-4183-87E5-A06D9F15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5AC7E1-A067-49C1-B4F3-75A51201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E5886F-6851-422C-95A6-F79DCE16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13CB42-8557-47A2-AD33-9BFF186F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D71760-D441-4EDD-89A6-E422EFD5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C11963-DF61-4684-89B3-EF01C068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503C59-B6FE-464F-B387-F60C8A47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D0DC-A342-489E-8A3B-1E1C512E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4AD0B8-C0B5-4BFD-BB05-91ECC1D6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3E2C39-DD42-4588-9B71-C4959885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495B44-074F-4EE8-8DA9-B490AF35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747D4F-8475-4ABA-86B0-D37B8712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AB3031-880A-4686-809C-23C47A2B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8EAC5A-6DB8-4A8D-AEF1-2BE3EEF6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AF8014-3058-4CCE-A510-4BD1B06B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E18383-965E-4235-BB97-9A45B214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8C62B3-DB9E-4532-84CD-B24555FB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59B740-4A0D-4836-A505-D3A1C3A9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8463E-8689-422A-89F6-00876C9E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4FA063-CD51-4D22-97BD-1E4913AF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36D5E7-14D7-47D9-8474-30931BC1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87018B-53BE-45DA-B398-8E70067B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40661-7C86-4828-ADD1-BC50F471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624CA-CDDA-46D6-ABB6-7AB3407C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F21D6-6354-4BB1-A7DD-3DD49538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82F64-D94A-4FD5-AC32-48B6D221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89EB-2B39-406F-B706-A2671624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5F8D2-78A7-4D71-B7E6-279AE834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51D6C-6EB1-4BAD-8A02-F5D616C2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57743-7F06-4788-AE83-F1043490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16763-2895-4C80-B270-6F1E4B92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566CD-6B3E-4D21-9C0C-6E089768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07051-6976-4843-B1F8-E32E23B7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34502-6C6E-4C52-8501-815C8E7F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D4BED-44F4-4189-977A-08931ED9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AB252-E054-4909-B0A0-B13C0DA0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BAA5C-9B59-454A-BC04-D11F55DE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1973-B1A0-476E-B4BD-5CC889DB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006E7-6BCA-47FC-A2FD-5DE1B5FB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B9FB9-9964-4F7E-B62A-CFE06EAB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515F2-59C7-4D3A-BEEF-1E9233E9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F516B-D14E-4DDD-9762-4B77CCF8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F9749-D9EB-4215-8E87-162B6D8E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25F8D-BBF0-40A4-8792-E51962A8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7B010-BD6B-4880-B29F-D5471848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943D3-F623-4B6C-B219-DDB274E7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AFB90-D6AC-47C7-AAB0-2C94AC0C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31592-4763-4240-ACA3-B388F63F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3AB4-0381-4511-A8F4-2F87FA6E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2D930-13EE-4E27-875B-E9472469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EE756-B7D1-4F44-8654-B39C0B21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C770A-300D-4E5C-9B3A-E6020C01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775D3-2E4B-48D5-BC45-DE500332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4985D-7EE0-40F4-BA38-E0883DA2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0A8AB-D4C5-4EFB-AB8D-AF911B82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F2CBF-AC64-432B-9989-1594CDFE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EB4B1-C39E-4C85-83DD-30AFCFFD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BA327-67CD-4D94-9104-D3601F0D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7AA88-6CC6-45B1-929E-E2946F42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B1F-4887-4B53-98A1-F9875348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86D73-7929-42ED-A583-0C7E9999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604E5-0837-4A8E-987F-71134968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0009A-EF58-4995-8379-B7F97B4B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FE4AD-37FF-4CCA-A183-5F23A1F6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BD351-1C2A-4BBA-BB94-64D2FD85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9D144-2182-408C-9DCE-0D34C1E7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949ED-040A-47B8-BF0B-80BE0A9C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DB7DF-B75E-4E1A-8372-D40C7B93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C9AED-D04E-4CAB-B0DA-0E19D8ED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53F54-9129-41E8-941E-26A05501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32E3-521F-441F-8A5D-15E3F3AC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E0059-8F14-400F-B89C-77D3F124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145EB-A887-450C-A66B-35560743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55DF6-B601-4CB2-A2A3-CAED7787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4E0E9-2439-4483-9E36-E56AEDE4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0DAEF-CFE0-4BE4-BD65-9E349043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FCE49-2CCD-49C9-BE33-79A3B28E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B82D3-4939-42A2-903D-27FEDF36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0F99D-47B6-425D-ABE8-48841BC3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EFCF7-8010-4CE9-81E3-A2F1F25A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81550-8ADF-41A9-9EB8-6EBDF944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492-13A9-4A52-8BD9-93550B4E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13D96-7541-45E6-8F46-A7E16D96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59262-EC60-4BB1-A201-860A5B9C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B9F92-B600-44B6-B232-6141DFE8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6B1FC-D381-4DAE-8536-EF69EE2B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6E51B-52C7-4976-ADC5-D9FA103C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71621-0261-4DFF-B2DA-04218596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E206B-C6C5-4D09-9603-6ACA71D7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62348-9A7B-49EB-BB15-5B5D1C74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BB229-4174-45B3-887E-DBE6CDC7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5227E-2C85-463E-971E-F1BD714C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5F5F-5020-4164-8167-CBFF8517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6DEF0-DC1A-44C8-BB45-38D3598B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60F62-4449-4176-BB31-05BB3E7B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08C18-B055-4DA7-A17F-91B16D3B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C1671-2770-4C68-A6DE-35B1E31C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3D444-16F3-4D00-93F6-DECEB305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69960-5C2A-4624-A34A-92B3FB64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D2926-EFB1-4E24-9D36-4A393CBD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090BE-8259-4F08-A938-1E0F53C4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6E839-246B-4A57-9AF5-DFB2784C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338C8-856F-4E8A-A661-46847C65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71ED-FB45-4B63-B42E-DE8C7CFD17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42CD-1AEB-4719-ADDF-A6A693BD50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5660-45FF-459A-B77D-6BC092210A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A1BB-8174-44A4-ADF0-92547FE270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475F-4AB1-4DD8-944E-CD921E06EA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5466-53FC-4F70-9243-28BFF524B7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14C0-26A1-4792-AE6D-A7F086E5A0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D1FC-E874-4A6C-9F26-00A4E9A051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1340-1EAE-423D-9C12-0A327BAF82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331D-2CBB-426C-8A6C-BB23427820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B628-5CDC-4125-AF81-D175CB3780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163A-CF7F-42EA-A0E5-B46822BBE6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96B0-FC81-4EB8-A312-CF22E16F81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8D05-6ED7-4477-9D2C-FC79B0EDEC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D890-FBFB-48F6-90B3-B6332D0ADB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116C-6A9C-4CBE-8284-7FE402593F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0D75-E007-49DD-A09B-E8C06CA31E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B660-8FD6-44B6-A04A-8B602929D6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93D4-6045-405A-B5B3-1360096C1C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C53C-0393-4F5E-8F82-C0119D66CF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AB31-C8C6-44A6-9844-7D491E1F64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505D-64D8-464B-858F-6D92E3BF4B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7DC7-6A81-4637-9DEC-7C6C1AFA7D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F08E-A084-45FD-80E8-211F2E1D99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8029-DAAA-484C-A394-2B36B96C3F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9193-C318-480A-B68F-26C03441EE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0568-2FCF-41E7-825E-6908BC13EC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D11F-C2A8-4E11-853B-3808CB066B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C98B-CCBE-4211-8795-3A6B6F69C7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0A76-E617-4B96-9237-63D359B0D5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B50F-42E5-4A4B-9BD3-1757001AAD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5D2A-D0B5-40E4-BA4E-7A5F71EA9A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FC07-5C56-42C6-9BD6-1398B4318F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A67C-BFAF-4C3F-8BEA-3A4EDEBE0F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4249-ECA2-4BCE-AA6D-00ABAAE7C0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E45A-94C6-4EA5-87C5-14AB4B2C0F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DD96-1779-4762-AFD9-F4DB678959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2ED1-E243-4BCB-A43B-4265E2E799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7F7B-C5E6-47E4-8F71-E68095FD77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6F85-AE47-4EFF-83D1-A97720563C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0.png"/><Relationship Id="rId3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414520" y="2948040"/>
            <a:ext cx="431496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457200" y="870120"/>
            <a:ext cx="8229600" cy="5438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824200" y="1996920"/>
            <a:ext cx="50472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544920" y="227664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579760" y="249228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541600" y="270828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635280" y="271476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348000" y="125892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6732720" y="126828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7534440" y="123984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7093080" y="1484280"/>
            <a:ext cx="43164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7093080" y="1719360"/>
            <a:ext cx="43164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7289640" y="2008080"/>
            <a:ext cx="287640" cy="257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7721640" y="236844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8317080" y="123048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1692360" y="386064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1258920" y="4221000"/>
            <a:ext cx="649080" cy="2574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1744560" y="313200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3276720" y="3860640"/>
            <a:ext cx="730080" cy="2574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3286080" y="4221000"/>
            <a:ext cx="649440" cy="257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3852720" y="3132000"/>
            <a:ext cx="287640" cy="2574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5373720" y="3500280"/>
            <a:ext cx="730080" cy="6177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2"/>
          <a:stretch/>
        </p:blipFill>
        <p:spPr>
          <a:xfrm>
            <a:off x="5383080" y="4221000"/>
            <a:ext cx="649440" cy="2574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3"/>
          <a:stretch/>
        </p:blipFill>
        <p:spPr>
          <a:xfrm>
            <a:off x="5950080" y="313200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4"/>
          <a:stretch/>
        </p:blipFill>
        <p:spPr>
          <a:xfrm>
            <a:off x="7480440" y="3481560"/>
            <a:ext cx="730080" cy="617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5"/>
          <a:stretch/>
        </p:blipFill>
        <p:spPr>
          <a:xfrm>
            <a:off x="7489800" y="4202280"/>
            <a:ext cx="649440" cy="257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6"/>
          <a:stretch/>
        </p:blipFill>
        <p:spPr>
          <a:xfrm>
            <a:off x="8056440" y="3112920"/>
            <a:ext cx="287640" cy="2574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7"/>
          <a:stretch/>
        </p:blipFill>
        <p:spPr>
          <a:xfrm>
            <a:off x="890640" y="5319720"/>
            <a:ext cx="1233360" cy="10620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8"/>
          <a:stretch/>
        </p:blipFill>
        <p:spPr>
          <a:xfrm>
            <a:off x="1835280" y="495144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9"/>
          <a:stretch/>
        </p:blipFill>
        <p:spPr>
          <a:xfrm>
            <a:off x="2862360" y="5300640"/>
            <a:ext cx="1420560" cy="10620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0"/>
          <a:stretch/>
        </p:blipFill>
        <p:spPr>
          <a:xfrm>
            <a:off x="3975120" y="493236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1"/>
          <a:stretch/>
        </p:blipFill>
        <p:spPr>
          <a:xfrm>
            <a:off x="4932360" y="5300640"/>
            <a:ext cx="1420920" cy="10620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2"/>
          <a:stretch/>
        </p:blipFill>
        <p:spPr>
          <a:xfrm>
            <a:off x="6045120" y="493236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3"/>
          <a:stretch/>
        </p:blipFill>
        <p:spPr>
          <a:xfrm>
            <a:off x="7074000" y="5310360"/>
            <a:ext cx="1420560" cy="10620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4"/>
          <a:stretch/>
        </p:blipFill>
        <p:spPr>
          <a:xfrm>
            <a:off x="8186760" y="4941720"/>
            <a:ext cx="2872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9410" descr=""/>
          <p:cNvPicPr/>
          <p:nvPr/>
        </p:nvPicPr>
        <p:blipFill>
          <a:blip r:embed="rId1"/>
          <a:stretch/>
        </p:blipFill>
        <p:spPr>
          <a:xfrm>
            <a:off x="247680" y="628560"/>
            <a:ext cx="8648640" cy="58960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468360" y="3016080"/>
            <a:ext cx="4319640" cy="3193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468360" y="3313080"/>
            <a:ext cx="4319640" cy="3189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539640" y="5527800"/>
            <a:ext cx="4319640" cy="3189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539640" y="5824440"/>
            <a:ext cx="4319640" cy="3193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8532720" y="35146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8402760" y="38894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8"/>
          <a:stretch/>
        </p:blipFill>
        <p:spPr>
          <a:xfrm>
            <a:off x="8459640" y="4292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9"/>
          <a:stretch/>
        </p:blipFill>
        <p:spPr>
          <a:xfrm>
            <a:off x="8532720" y="4653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0"/>
          <a:stretch/>
        </p:blipFill>
        <p:spPr>
          <a:xfrm>
            <a:off x="8532720" y="5013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1"/>
          <a:stretch/>
        </p:blipFill>
        <p:spPr>
          <a:xfrm>
            <a:off x="8459640" y="5445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2"/>
          <a:stretch/>
        </p:blipFill>
        <p:spPr>
          <a:xfrm>
            <a:off x="8388360" y="5805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3"/>
          <a:stretch/>
        </p:blipFill>
        <p:spPr>
          <a:xfrm>
            <a:off x="8402760" y="6165720"/>
            <a:ext cx="3585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7:54:57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